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3B259-050A-49D2-9801-C5EC720F7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513EB-DAFC-4846-BD9A-3D86A744E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53BB3-9721-4B8F-9FDD-28E08B360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06C77-4872-47CA-B330-569A493BC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08F19-E736-4898-A37A-62FC4AD30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A8D97-9D59-42BC-945E-06D0AADB7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81381-3A3A-4A78-8BE8-E2795D14D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83DCC-7378-4168-B5B9-4C61178EE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4B681-4131-4A0A-B61B-681CE2495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1A52B-2508-4959-A7C8-F7DF2BE81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0DB1F-0B77-400D-AB2C-40BEE3D0E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EDC39-5A7A-4F25-9B3D-E16C300A3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398B-C89D-4570-A915-3290A1CFF1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favorite topic (after grammar, of cou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ric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ttempting to make sense and make clear complex behaviors, you want to articulate some guidelines and standards. Rubrics contain guidelines that detail “acceptable evidence” for making a judgment about student work.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istic rubr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al rubr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They are difficult to construct and explain to students, they are very time consum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list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ve checklists: Checklists require a clear understanding of your expectations, but they allow greater flexibility. There are few degrees of performance variability expected. Negotiate with students and assign poi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s provide tangible evidence for students that they are learning and making progress. Can motivate students, and make them feel like your partners in their own learn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ized Assessment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of these tests is to assess the performance of a large number of individuals from a variety of different backgrounds on a similar trait or characteristic. They measure both achievement (compares student learning) and aptitude (measures potential ability or capacity to lear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developed by for profit companies, they are well-written by “experts,” tested, and revised. Challenges: mismatch between curricular objectives of national audience and local schools, bias, coaching (cheating), and testing condi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ding</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ing – one process of communicating the evaluation (judgment) to students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grade provide valuable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objective is the gr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learly can you articulate this (most grading ability comes with experience, much of this is difficult to articulate – taci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eri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referenced evaluation: bell curve – “grading on the curve,” based on the assumption that given traits will be distributed in a predictable wa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erion-referenced evaluation: performance of an individual is compared to a standard, or specific criteria, related to the objectives established for a class. (targe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otiated criter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grading plan</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se sources of evidence you can use in your grading pl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mework, major projects, test scores, lab. Projects, student portfolios, oral presentations, class participation, student reflec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eight will you give each 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ssessment layer</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n assessment plan for your unit. Identify at least 3 objectives and state the assessment technique you will use and how you will specifically implement i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 some sample test questions, and essay question, develop a sample rubric or check-list, define some authentic assessment tasks you could use in this unit, and tie this to your philosophy of education and how this will influence how you assess/evaluate/grade your stude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Evalua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refers to the process of gathering information or measuring the presence or absence of someth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refers to the process of interpreting and making judgments about evidence gathered in assessm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basic assessment principle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should focus on measurement of important and worthwhile goals and objectives (not just stuff that’s easy to measu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assessment requires that the teacher use a variety of procedures (education is comple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requires adequate sampling – it needs to be frequent and on-go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should be equitable and fai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should inform teac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ust because you “teach it,” doesn’t mean they will “learn it.”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to decide on important goals for teaching your subject (think of the Stiggins learning targets/your developing philosophy of education), and focus on these when you teach and ass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is complex</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ests and other high stakes tests will only measure certain skills, usually those that are the least complex to measur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 . You want to identify clear </a:t>
            </a:r>
            <a:r>
              <a:rPr b="1" lang="en-US" sz="3200" spc="-1" strike="noStrike">
                <a:solidFill>
                  <a:srgbClr val="000000"/>
                </a:solidFill>
                <a:latin typeface="Arial"/>
              </a:rPr>
              <a:t>objectives </a:t>
            </a:r>
            <a:r>
              <a:rPr b="0" lang="en-US" sz="3200" spc="-1" strike="noStrike">
                <a:solidFill>
                  <a:srgbClr val="000000"/>
                </a:solidFill>
                <a:latin typeface="Arial"/>
              </a:rPr>
              <a:t>that focus on what you think students should </a:t>
            </a:r>
            <a:r>
              <a:rPr b="1" lang="en-US" sz="3200" spc="-1" strike="noStrike">
                <a:solidFill>
                  <a:srgbClr val="000000"/>
                </a:solidFill>
                <a:latin typeface="Arial"/>
              </a:rPr>
              <a:t>know</a:t>
            </a:r>
            <a:r>
              <a:rPr b="0" lang="en-US" sz="3200" spc="-1" strike="noStrike">
                <a:solidFill>
                  <a:srgbClr val="000000"/>
                </a:solidFill>
                <a:latin typeface="Arial"/>
              </a:rPr>
              <a:t> and should be able to </a:t>
            </a:r>
            <a:r>
              <a:rPr b="1" lang="en-US" sz="3200" spc="-1" strike="noStrike">
                <a:solidFill>
                  <a:srgbClr val="000000"/>
                </a:solidFill>
                <a:latin typeface="Arial"/>
              </a:rPr>
              <a:t>do</a:t>
            </a:r>
            <a:r>
              <a:rPr b="0" lang="en-US" sz="3200" spc="-1" strike="noStrike">
                <a:solidFill>
                  <a:srgbClr val="000000"/>
                </a:solidFill>
                <a:latin typeface="Arial"/>
              </a:rPr>
              <a:t>, and then plan assessments to measure these objectives. That last minute test won’t cu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 option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lots of assessment options. What are they? What are the benefits/limitations of the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note on essay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ays are powerful, because they can assess complex and higher-level objectives. They call on students to apply, analyze, synthesize, evaluate, and/or CREATE! They probe more deeply and can highlight what a student kn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s? Scoring, writing challenges, writing style, time, b.s. factor, subje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cision is ke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n essay in which you discuss the chromosome hypothesis and the gene theo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n essay, about five pages in length, in which you compare and contrast the chromosome hypothesis and gene theory. In your answer, provide specific references to a.) essentials of each position, b.) modifications that have been made to each position since it was initially adopted, and c.) strengths and weaknesses that have been attributed to each view by leading expe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entic assessmen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s are based on evidence gained from the actual performance of “authentic” or “real” tasks. Instead of hypothetical problems, students solve real problems. Advocates point out that these assessments should be related to life beyond the classroom.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ny pathways can lead to success –  differentiated assessm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plex, and require multiple steps, as well as clear instructions and. . . Revis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subjective, time consuming, difficult to develop, scoring is challenging (check-lists or rubrics work be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4T21:42:43Z</dcterms:created>
  <dc:creator>HP Authorized Customer</dc:creator>
  <dc:description/>
  <dc:language>en-US</dc:language>
  <cp:lastModifiedBy>HP Authorized Customer</cp:lastModifiedBy>
  <dcterms:modified xsi:type="dcterms:W3CDTF">2010-04-04T22:41:43Z</dcterms:modified>
  <cp:revision>20</cp:revision>
  <dc:subject/>
  <dc:title>Assessment </dc:title>
</cp:coreProperties>
</file>